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A84D0A-9FFF-4EA3-A92D-068BDD69F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D3AD86-655D-48BD-9148-64D71DF6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C26628-2885-4B8A-AD2D-1F9D81FFF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74B87B-5722-4D33-A774-902568256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42ABB6-163E-4424-BA9D-A6B82476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3B905C-A2AB-47CA-B639-8490685F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5ED2DB-2291-4FFC-A88B-D26A6BD43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4074FE-F8CA-4040-AE87-0476AB5CD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47120C-1821-4DF4-8CC6-A9EADBFCE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BC0EBC-B389-4224-ABD2-EBC97FEBF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84EEA4-1FCC-4780-A4D9-261015A5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4F2813-071D-4965-820C-999B43AC2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288883-837B-43C6-A990-64573AC2C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71694D-87C8-4325-B9A9-4239BB698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02A712-CE62-478B-85E0-976D35F58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A77104-A192-4BC7-8EEC-A63CCF235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A4449F-4FA0-4803-BA16-432BCA26B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BD8A90-3B4C-460F-BEE6-61FDC3F97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8BA313-C31E-4857-9159-6A23002EA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04C33E-DBB3-4CDB-A407-9F9B177C5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F202B1-D12E-4119-869C-D9CB72A63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F37A40-7D1F-4B1E-9FDB-E1AD19371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1AD2D-5D4D-43CC-B902-0E4A44866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9F5E05-9E92-44E1-84B5-B1847C551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AFF188-6BBF-4506-A8B2-057A5D5A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74D110-EA8F-42F4-AB6F-EDDC6BB3A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14D678-7B29-4F88-8AF2-363D214C6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D9D933-9674-4294-B60F-72EC68B6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CBD8B5-6DEC-4E78-B052-70B299851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A35C82-A009-47DA-9686-0CCFDE9B6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187F73-16E6-44C7-8B68-63EA9C07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0E3C90-4DFA-4844-9EB1-733A8895F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C13B19-A61F-4603-BFE0-AAF24074A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CC767B-C715-404D-A62F-FCC77337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F6C177-5E30-4E15-A436-ABB5900FC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996C68-C133-4868-A589-7442AE8A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4D8DD8-34D3-4F33-AE88-DF158F76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49B6EC-81AF-46A0-943E-BDD833D88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0E66-1668-4D9A-A1C7-0296321271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E1F8-8965-4D41-A37F-9CF80ADC53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7F62A-23FC-471B-AD42-0BAD08EF7D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2D56-4103-4979-B6BF-FBF00B29D0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8E8B-72A3-47E4-8E31-4439282575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2A5F-20A5-4080-98F8-1670B35261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509F-2187-42BB-A2E8-78B5F07BEE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6CFF-641F-4121-B9E4-8B849984E3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824D-2B08-4FD3-B34A-E428D37C94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9672-756B-4BB3-9618-CC2F055339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2B77-8DAF-4ECD-8660-51AA875E11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8EA8-7888-4216-A3A9-5A9901B35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logotr2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1B95-BD88-4684-B321-C7C52AFC610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logotr2"/>
          <p:cNvPicPr/>
          <p:nvPr/>
        </p:nvPicPr>
        <p:blipFill>
          <a:blip r:embed="rId3"/>
          <a:stretch/>
        </p:blipFill>
        <p:spPr>
          <a:xfrm>
            <a:off x="8321760" y="6021360"/>
            <a:ext cx="82224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0520" y="3198960"/>
            <a:ext cx="9144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Ekonomide ve Bankacılık Sektörü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Gelişm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üseyin Ayd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Yönetim Kurulu Başkan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Mayı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5F92-1CF7-4775-B6F2-50881AA8427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33480"/>
            <a:ext cx="88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roje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08000" y="1338120"/>
            <a:ext cx="705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B5BF-373A-40CA-BEDE-895926FB850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 kali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302400" y="45925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28440" y="1297080"/>
            <a:ext cx="46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4560840" y="1297080"/>
            <a:ext cx="4583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2A9E-D0E0-4CD5-99B4-022AEE5C576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pılandırılan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200" y="1268280"/>
            <a:ext cx="454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, bölgesel veya jeopolitik nedenler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on akımı boz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ireysel ve kurum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sa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 müşteril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rekli kolaylıklar sağlanmakta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ca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ali durumu sürekli sorunlu ve iyileşemeyecek müşteriler için kurallar uygulanmakta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4597560" y="1700280"/>
            <a:ext cx="456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0D6D-AA1A-45EC-BE4C-4EFBEFB6D6A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56320" y="46339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0"/>
            <a:ext cx="91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Mevduat daha sınırl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575240" cy="288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610160" y="1268280"/>
            <a:ext cx="4568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18D7-2875-46E9-BB45-66A42149C92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Mevduat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seyri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00680" y="5614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52920" y="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üyüme farkı azal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0" y="1365120"/>
            <a:ext cx="4560840" cy="2711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4560840" y="1309680"/>
            <a:ext cx="4583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6110-1F75-4B75-976B-127DF5B32CB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51840" y="463536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zine Müsteşarlığı, BDDK,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10160" y="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TL kredi büyümesin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in üçte biri Hazine itfası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evduat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oranı düşü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43560" y="1266840"/>
            <a:ext cx="4600440" cy="2954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126684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6BC1-EDC3-4BC0-9204-8F503D59EF3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610160" y="0"/>
            <a:ext cx="45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Yurtdışı finansman önem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Mevduat dışı kaynakların sey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4594320" y="1281240"/>
            <a:ext cx="4576680" cy="286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1281240"/>
            <a:ext cx="4594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12B8-63A9-4B1D-B5CA-72D58684D37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bancı para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1440" y="1341360"/>
            <a:ext cx="45594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560840" y="1177920"/>
            <a:ext cx="4583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A0AA-7468-4F31-B188-D7852B9C349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 büyümesi yavaşlad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-20520" y="1268280"/>
            <a:ext cx="45925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4579920" y="124776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3499-30E5-4711-B69A-0BE9E14706F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 yeterli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11160" y="1260360"/>
            <a:ext cx="4572000" cy="293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560840" y="1260360"/>
            <a:ext cx="45831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560C-8143-4545-BFC0-DA45267D460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onuşmanın içer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270080"/>
            <a:ext cx="840744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Dünyada ve Türkiye’de ekonomik gelişm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nkacılık sektöründeki gelişme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 ve sektörün talep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115F-6FBB-4435-AFF4-7CAF924038B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Fiili sermaye yeterliliği yüzde 1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225440"/>
            <a:ext cx="6084720" cy="398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84360" y="1017720"/>
            <a:ext cx="3022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Mevcut eğil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evam eder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2018’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fiili sınıra ulaşıl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 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kredi büyü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vaşlay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4F33-9EB0-4752-A5CE-C0906D88FFD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0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 sınırlandıran nede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240" y="1017720"/>
            <a:ext cx="456876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ade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piyasalardaki dalgalanmaları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neden olduğu riskler vey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yönetim kararları değil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0560" y="1017720"/>
            <a:ext cx="45687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üzenleme değişiklikl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Sürdürülebilir karlılığı sınırlandıran yük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Maliyet arttıran ek yü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elir azaltan düzenlem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ri alanlarda cezalandırıcı yak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Tahsili gecikmiş alacaklarda artı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5A11-E302-40F7-86F6-D00C882605C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 düşerk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48240" y="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dı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m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rj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katkısı da aza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289160"/>
            <a:ext cx="456084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2"/>
          <a:stretch/>
        </p:blipFill>
        <p:spPr>
          <a:xfrm>
            <a:off x="4572000" y="131616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EC2E-C324-4D93-AAB3-87769722431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nın düşmesi beklenen bir d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8480" y="0"/>
            <a:ext cx="453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Risk için ayrılan karş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0" y="1482840"/>
            <a:ext cx="453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Faiz oranları yükselir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sağlıklı ve faize duyarlı müşterilerin kredi talebi azalı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büyüme hızı yava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kredi kalitesi düşe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riskler için karşılıklar arta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572000" y="11872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270D-429B-4E7D-902F-CCD3D2F1CB3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Net özkaynak karlılığı düşü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578480" y="0"/>
            <a:ext cx="4538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Sermayenin getirisi maliyet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-33480" y="1303200"/>
            <a:ext cx="4577040" cy="2846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4578480" y="1303200"/>
            <a:ext cx="4565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A48A-4856-42D4-9131-41EAEAAB847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36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ye sahip çıkma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ekonominin geleceğine sahip çıkmakt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9360" y="1494000"/>
            <a:ext cx="913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Net karın tamamı özkaynağa ekleniyor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krediye ve büyümeye dönüşü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0920" y="3451320"/>
            <a:ext cx="8642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94F3-EE44-4FE8-9211-56A223E7DA5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5687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Kredi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büyümesinin 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ürdürül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Uluslararası rekabet gücünün art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Şoklara dayanma gücünün korun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ıkılaşan uluslararası kurallara uy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641840" y="1268280"/>
            <a:ext cx="45687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</a:rPr>
              <a:t>Özkaynakların güçlendirilmesi gerek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97C5-53C5-4E75-9838-1AD243ABEB4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iyasa değ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248040" y="4592520"/>
            <a:ext cx="222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-11160" y="1276200"/>
            <a:ext cx="4583160" cy="287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559400" y="1262160"/>
            <a:ext cx="45846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FE9E-DBA5-428F-B7CB-98BFA144695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83600" y="4581360"/>
            <a:ext cx="18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-3240" y="44280"/>
            <a:ext cx="456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ankalar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 1’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0" y="1333440"/>
            <a:ext cx="4568760" cy="2857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572000" cy="2884680"/>
          </a:xfrm>
          <a:prstGeom prst="rect">
            <a:avLst/>
          </a:prstGeom>
          <a:ln w="0">
            <a:noFill/>
          </a:ln>
        </p:spPr>
      </p:pic>
      <p:sp>
        <p:nvSpPr>
          <p:cNvPr id="245" name="Title 1"/>
          <p:cNvSpPr/>
          <p:nvPr/>
        </p:nvSpPr>
        <p:spPr>
          <a:xfrm>
            <a:off x="4575240" y="47520"/>
            <a:ext cx="4568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Karlılık bankalar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ha yüksek değ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4530240" y="4568760"/>
            <a:ext cx="25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İSO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1232-6E61-403B-BD4C-208F295B0E0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Düzenlemeler etkili ve maliyet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9880" y="1196640"/>
            <a:ext cx="88628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Gelişmişlik farkı gözetilm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ankaların yapısını, davranışını ve maliyet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şterileri ve ekonomiy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rekli değişiklik uyum sürecini, iş modeller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28A4-B83D-4AE4-947B-12E92138BA0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üresel r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iskler yüksek ve dalgal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808200"/>
            <a:ext cx="454032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Belirsizlik ve riskler yüksek, risk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ştahı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üyüme ve ticaret hacmi artışı yava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lişmiş ülkelerde farklılaşan para politik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GOÜ’den s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rmaye 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çıkış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 para ve sermaye piyasaları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Risk primleri yükse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62640" y="692280"/>
            <a:ext cx="4541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3440" y="765000"/>
            <a:ext cx="4321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E13B-8AF2-4E71-AA40-197B41C9F94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-74520" y="0"/>
            <a:ext cx="9218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09720"/>
            <a:ext cx="915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DDK’nın görüşü alınmalı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koordinasyon sağ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Olağanüstü durumlar tanım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sit, uygulanabilir, tutarl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l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Sektörü büyütmeli, rekabet gücünü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ı güçlendi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Teknolojik ürün ve hizmetleri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399F-9DAF-425E-BF8D-D0A469B0ED4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480" y="879480"/>
            <a:ext cx="88963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Alacakların tahsilatını hızlandır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Kredi verme iştahını düşür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Risk yönetiminde rehber olmalı, riskin alınmasına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müdahale et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Risk primini düşü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Güve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sağla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Piyasaları büyütmeli ve derinleştiril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F85B-B18B-4258-A16D-E433832EF70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Finansal istikrar ve büyü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şletme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irey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kredi ve bankacılık hiz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taleplerinin karşılanm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finansal istikrarı tanım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Mevcut kredilerin çev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alacakların zamanında tahsil edilmesin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eni kredilerin v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ekonomide büyümenin sürekliliğine bağ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7E51-F62B-412B-A9E6-0813E94CB5A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7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form;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kabet, büyüme ve refah artışı demek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am makro d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Hızlanan refor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ıklı bankac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Öngörülebilir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üyüme potansiy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efah artı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668A-19BF-41B1-92B4-2F172282E8B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Ülkemizin geleceğine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inanıyor ve güveniyo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840" y="1268280"/>
            <a:ext cx="4556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yimser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eklentilerimiz olum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htiyatlıy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Gerçekçi bir yaklaşım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iskleri 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fırsat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irlik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değerlendiriyor, yönetiyo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E268-CB83-4C15-893C-B69B680A6EC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nin geleceğine yatırıma dev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640" y="942480"/>
            <a:ext cx="8937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İstikrardan ve büyümeden güç alan bankacılı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zorluklara ve giderek sıkılaşan kurallara rağ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htiyatlı bir yaklaşım içi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redileri reel olarak arttır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ürkiye’nin geleceğine yatırım  yapıyor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9195-196F-40FA-85AB-BBAC8CE6465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Şükran ve teşekk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39760" y="836640"/>
            <a:ext cx="4327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ankacılık sektörü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üyüme potansiyel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sağlıklı bilanço yapısı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ürün ve hizmet kalit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yönetim tecrüb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yi eğitimli insan kaynağı 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stikrara ve büyümeye katkı ver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67320" y="836640"/>
            <a:ext cx="4576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Emeği geçen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kişi ve kuruluşlar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banka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sermayedar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yöneticilerimiz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çalışanlarımız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şükranlarımızı sunar</a:t>
            </a:r>
            <a:r>
              <a:rPr b="1" lang="en-US" sz="2700" spc="-1" strike="noStrike">
                <a:solidFill>
                  <a:srgbClr val="0070c0"/>
                </a:solidFill>
                <a:latin typeface="Arial"/>
              </a:rPr>
              <a:t>ız.</a:t>
            </a: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3D0F-23BA-4333-84CC-16331D8A19E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971640" y="2421000"/>
            <a:ext cx="720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2060"/>
                </a:solidFill>
                <a:latin typeface="Arial"/>
              </a:rPr>
              <a:t>Teşekkür eder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DD44-81F6-42B8-8906-CD75FEC51A3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de büyüme hızland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000" y="942480"/>
            <a:ext cx="4572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syh yüzde 4 büyü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asarruf oranı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Bütçe disiplini s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amunun borç stoku/gsyh oranı düşt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Net sermaye girişi ol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Finansal sektör işlevini sürd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99000" y="942840"/>
            <a:ext cx="38512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Gıda fiyatları ve zayıf TL nedeniyle e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flasyon yüksek ka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TL reel olarak değer kaybe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Likidite sıkılaştırı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Faiz oranları 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B3A1-2C57-48A5-A724-E46319A5AA8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büyümesi yavaşlı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60" y="4437000"/>
            <a:ext cx="176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Uİ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440" y="1268280"/>
            <a:ext cx="4570560" cy="28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61B4-D7C6-48DD-A357-FCF946F7EC4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Ölçek küç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697400" y="4437000"/>
            <a:ext cx="18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lbanks.com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738440" y="1238400"/>
            <a:ext cx="5713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A11D-8351-4FC2-B77E-87B33AD50E0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-2700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yapısında değiş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68600" y="1268280"/>
            <a:ext cx="5783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D0E2-D338-4E2D-A320-B2AD9195E04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Kredilerin sey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93040" y="493884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0" y="1303200"/>
            <a:ext cx="4572000" cy="284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0520" y="1270080"/>
            <a:ext cx="455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B734-074A-423A-BD1E-7EF250C0E3D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5840" y="43959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503600" y="0"/>
            <a:ext cx="45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Kurumsal kred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4400"/>
            <a:ext cx="4586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ireysel kredi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p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yı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 öngörülen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Sirin Mutluturk</dc:creator>
  <dc:description/>
  <dc:language>en-US</dc:language>
  <cp:lastModifiedBy>Ekrem Keskin</cp:lastModifiedBy>
  <cp:lastPrinted>2016-05-24T10:29:15Z</cp:lastPrinted>
  <dcterms:modified xsi:type="dcterms:W3CDTF">2016-05-25T06:48:50Z</dcterms:modified>
  <cp:revision>638</cp:revision>
  <dc:subject/>
  <dc:title>Slide 1</dc:title>
</cp:coreProperties>
</file>